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24209-E90E-4474-9A71-982ED1CC9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E76CE-0F2B-4745-B9E0-80B5F206C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1A8A4-6F2B-4041-9D9F-49588B668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C74B7-1BCD-4E1F-93D1-81933E1C1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E156-53CC-4523-8312-0B7D401E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A2928-6B5E-479E-A4C6-5A8EA7B4E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43832-3B62-4F60-8EEF-5467478CB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155FD-667F-41E9-9F8B-98C7BEF46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C0166-9AFE-4A84-9088-AC7D73505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4191-5199-4D27-A177-0A01FF148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A27F5-DD7E-4A12-9DA9-198E82097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20BBB-7D2C-4484-B859-3B90CACAF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F3A8-5C0D-4886-A8FB-FB22C6936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 Pla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562360"/>
            <a:ext cx="6400800" cy="1143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a Qazi</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ca G.</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2209680" y="1143000"/>
            <a:ext cx="4505400" cy="42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ught</a:t>
            </a:r>
            <a:endParaRPr b="0" lang="en-US" sz="4400" spc="-1" strike="noStrike">
              <a:solidFill>
                <a:srgbClr val="0000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citizens of the problems and help them adapt to the situation since you cannot control the weather. Due to the warning the citizens receive, they will be able to protect their crops accordingly.</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4572000" y="2057400"/>
            <a:ext cx="419112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orest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 laws that limit number of trees that can be cut down. This will slow deforestation in Mauritania. </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4572000" y="1676520"/>
            <a:ext cx="4267080" cy="3733560"/>
          </a:xfrm>
          <a:prstGeom prst="rect">
            <a:avLst/>
          </a:prstGeom>
          <a:ln w="0">
            <a:noFill/>
          </a:ln>
        </p:spPr>
      </p:pic>
      <p:sp>
        <p:nvSpPr>
          <p:cNvPr id="50" name=""/>
          <p:cNvSpPr/>
          <p:nvPr/>
        </p:nvSpPr>
        <p:spPr>
          <a:xfrm>
            <a:off x="4648320" y="533412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saying deforestation not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grazing</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 of farm animals will have to limit the areas their animals can graze using fences. Their will be fines for owners of farm animals that overgraze.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4724280" y="1828800"/>
            <a:ext cx="348624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or Farming Techniqu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0720"/>
            <a:ext cx="815328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new techniques to rural farmers, and encourage their use. This will lead to modern farming techniques that are more efficient. </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304920" y="3809880"/>
            <a:ext cx="8534160" cy="26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 Ques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ink the introduction of new farming methods to rural farmers is the best part of our plan. This is because these new methods not only benefit the people, they also benefit the land. So these new methods are helpful to bo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rt Two- Environmental Refugee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l Refugees are people who are displaced because they don’t have enough resourc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oughts create environmental refuge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ced Peop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ABZ</cp:lastModifiedBy>
  <dcterms:modified xsi:type="dcterms:W3CDTF">2009-05-06T04:02:48Z</dcterms:modified>
  <cp:revision>3</cp:revision>
  <dc:subject/>
  <dc:title>PowerPoint Presentation</dc:title>
</cp:coreProperties>
</file>