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AC3E9-E739-4689-9A2B-6B5271E37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543FE-93FE-494C-A976-982B8CBA4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E014C-4CE0-41B9-8B92-EB076CBBD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81EDB-3200-4EDD-B3C6-42D541D51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48BDB-4CC9-4421-AEFC-0CFFDCAED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5DB66-4062-4C11-8CF4-E15A1BF36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84BAD-9300-4539-9E43-C443F566B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4E367-792A-4E0F-B6E8-841E84156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BD45F-AA55-4058-9314-1C47F017F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89BC8-302D-4567-8B3E-E44112430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97FD0-16FE-4065-B13C-56619DC08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62653-2263-4345-8F27-ECEE481D5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829B-14E5-4E13-8618-C1535A1A09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e/ Israel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ca Guilfoy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lways lived t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taken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forced them out of their hom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are not allowed to trav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lestinians human rights are being viol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can only use terrorism because they do not have a military fo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attack their citizens using the milita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killed the Hamas spiritual lead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 is illegally occupying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blockade restricted travel and flattened maufacturing, construction and much of the public service indust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employment rate of Palestinians is growing. The Palestinian economy is un-existant due to the Israeli o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s</a:t>
            </a:r>
            <a:endParaRPr b="0" lang="en-US" sz="4400" spc="-1" strike="noStrike">
              <a:solidFill>
                <a:srgbClr val="0000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iaspora, the Jews were forced out of their home land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ews believe the land is rightfully theirs and was granted to them by god</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only use military force to defend themselve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on the Gaza Strip was won during the Six Day War</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Holocaust, the Jews want to return to their holy land.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owned the land first because the Jewish State, Judae was incorporated into the Roman province of Palestine</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in occupied the region at the end of the war in 1918 and was assigned as the mandatory power by the Leauge of Nations on April 25, 1920. Britain gave this land to the Jew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Sol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ution beneficial to the Palestinians would be for the Israelis to leave their land. The Palestinians would gain back all the human rights that were previous violated. The Israelis would stop colonizing their land and discontinue military force. If the Israelis complied, then the Palestinians would stop using terrorist att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 Solu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raelis would continue colonizing the land and continue with the ethnic cleansing of the Palestinian people. The Israelis would also use their military force to aid in “defending” themselves and forced the Palestinians off land that is rightfully thei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omi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omise between the Israelis and Palestinians would be for the two nations to agree to share Palestine and use the land to grow crops and export goods. This would benefit both nations. In return for this ceasefire, terrorism will stop and the Israelis will not violate the Palestinians human rights. Both nations should spread propaganda about the other country in school, to increase positive re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 Day W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June 5</a:t>
            </a:r>
            <a:r>
              <a:rPr b="0" lang="en-US" sz="3200" spc="-1" strike="noStrike" baseline="30000">
                <a:solidFill>
                  <a:srgbClr val="000000"/>
                </a:solidFill>
                <a:latin typeface="Arial"/>
              </a:rPr>
              <a:t>th</a:t>
            </a:r>
            <a:r>
              <a:rPr b="0" lang="en-US" sz="3200" spc="-1" strike="noStrike">
                <a:solidFill>
                  <a:srgbClr val="000000"/>
                </a:solidFill>
                <a:latin typeface="Arial"/>
              </a:rPr>
              <a:t> 1967, the Israelis fought the Arab nations of Egypt, Jordan, and Syria using armed forces. Israel took the Gaza Strip by force, and now occupies the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as was founded to fight against the Israelis occupation by Muslim Borther hood members. Hamas is an acronym for the Islamic Resistance Movement and acts as an intafa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 Partition Plan</a:t>
            </a:r>
            <a:endParaRPr b="0" lang="en-US" sz="4400" spc="-1" strike="noStrike">
              <a:solidFill>
                <a:srgbClr val="000000"/>
              </a:solidFill>
              <a:latin typeface="Arial"/>
            </a:endParaRPr>
          </a:p>
        </p:txBody>
      </p:sp>
      <p:sp>
        <p:nvSpPr>
          <p:cNvPr id="5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ed Nations separated Palestine into two nations- the Arab Nation and Jew Nation. Jerusalem became the U.N. headquar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3:11:21Z</dcterms:created>
  <dc:creator>cfisd</dc:creator>
  <dc:description/>
  <dc:language>en-US</dc:language>
  <cp:lastModifiedBy>cfisd</cp:lastModifiedBy>
  <dcterms:modified xsi:type="dcterms:W3CDTF">2009-03-02T13:38:08Z</dcterms:modified>
  <cp:revision>5</cp:revision>
  <dc:subject/>
  <dc:title>Palestine/ Israel Conflict</dc:title>
</cp:coreProperties>
</file>