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4C1017-E11F-4C25-9CBC-E54EC27966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5F66D1-0712-40AD-BBAE-282A15F403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5D7DF7-7496-45CE-9213-C89A852509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4D63F3-E02E-47A7-9711-AC19D12E6D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8E8230-B9FC-4676-9CB4-1B2CF936E8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486AB2-C7CA-48B3-9FF9-ADFB44E57A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5BD3B2-3F25-403D-9487-9135AE6814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F7B177-59EB-4B58-87AE-2B8D28BE79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BF6589-CB00-454B-8F11-5BAD5EDBC7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56861-D251-4EF5-84E2-CE2C411A14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ACB38-39F7-401B-BCA7-A5EEF183B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78A54-A1D6-4D26-B3CB-0D5DDC9D4B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8B142-71C6-4B3E-8A3A-BFD438474A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lestine/ Israel Conflict</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ce Chung</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ca Guilfoyl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y V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lestinian </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have always lived ther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sraelis have taken their lan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sraelis have forced them out of their hom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lestinians are not allowed to trave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alestinians human rights are being violate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lestinians can only use terrorism because they do not have a military forc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raelis attack their citizens using the militar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sraelis killed the Hamas spiritual leade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rael is illegally occupying their lan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raeli’s blockade restricted travel and flattened maufacturing, construction and much of the public service industr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nemployment rate of Palestinians is growing. The Palestinian economy is un-existant due to the Israeli opres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raelis</a:t>
            </a:r>
            <a:endParaRPr b="0" lang="en-US" sz="4400" spc="-1" strike="noStrike">
              <a:solidFill>
                <a:srgbClr val="000000"/>
              </a:solidFill>
              <a:latin typeface="Arial"/>
            </a:endParaRPr>
          </a:p>
        </p:txBody>
      </p:sp>
      <p:sp>
        <p:nvSpPr>
          <p:cNvPr id="46" name="PlaceHolder 2"/>
          <p:cNvSpPr>
            <a:spLocks noGrp="1"/>
          </p:cNvSpPr>
          <p:nvPr>
            <p:ph/>
          </p:nvPr>
        </p:nvSpPr>
        <p:spPr>
          <a:xfrm>
            <a:off x="457200" y="1294920"/>
            <a:ext cx="8229600" cy="4830840"/>
          </a:xfrm>
          <a:prstGeom prst="rect">
            <a:avLst/>
          </a:prstGeom>
          <a:noFill/>
          <a:ln w="0">
            <a:noFill/>
          </a:ln>
        </p:spPr>
        <p:txBody>
          <a:bodyPr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Diaspora, the Jews were forced out of their home lands</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ews believe the land is rightfully theirs and was granted to them by god</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only use military force to defend themselves</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won the Gaza Strip was won during the Six Day War</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of the Holocaust, the Jews want to return to their holy land. </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ws owned the land first because the Jewish State, Judae was incorporated into the Roman province of Palestine</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tain occupied the region at the end of the war in 1918 and was assigned as the mandatory power by the Leauge of Nations on April 25, 1920. Britain gave this land to the Jews.</a:t>
            </a:r>
            <a:endParaRPr b="0" lang="en-US" sz="2400" spc="-1" strike="noStrike">
              <a:solidFill>
                <a:srgbClr val="000000"/>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lestinian Solu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olution beneficial to the Palestinians would be for the Israelis to leave their land. The Palestinians would gain back all the human rights that were previous violated. The Israelis would stop colonizing their land and discontinue military force. If the Israelis complied, then the Palestinians would stop using terrorist attac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raeli Solution</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sraelis would continue colonizing the land and continue with the ethnic cleansing of the Palestinian people. The Israelis would also use their military force to aid in “defending” themselves and forced the Palestinians off land that is rightfully thei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romise</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ompromise between the Israelis and Palestinians would be for the two nations to agree to share Palestine and use the land to grow crops and export goods. This would benefit both nations. In return for this ceasefire, terrorism will stop and the Israelis will not violate the Palestinians human rights. Both nations should spread propaganda about the other country in school, to increase positive relatio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x Day War</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June 5</a:t>
            </a:r>
            <a:r>
              <a:rPr b="0" lang="en-US" sz="3200" spc="-1" strike="noStrike" baseline="30000">
                <a:solidFill>
                  <a:srgbClr val="000000"/>
                </a:solidFill>
                <a:latin typeface="Arial"/>
              </a:rPr>
              <a:t>th</a:t>
            </a:r>
            <a:r>
              <a:rPr b="0" lang="en-US" sz="3200" spc="-1" strike="noStrike">
                <a:solidFill>
                  <a:srgbClr val="000000"/>
                </a:solidFill>
                <a:latin typeface="Arial"/>
              </a:rPr>
              <a:t> 1967, the Israelis fought the Arab nations of Egypt, Jordan, and Syria using armed forces. Israel took the Gaza Strip by force, and now occupies the lan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ma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mas was founded to fight against the Israelis occupation by Muslim Borther hood members. Hamas is an acronym for the Islamic Resistance Movement and acts as an intafad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U.N. Partition Plan</a:t>
            </a:r>
            <a:endParaRPr b="0" lang="en-US" sz="4400" spc="-1" strike="noStrike">
              <a:solidFill>
                <a:srgbClr val="000000"/>
              </a:solidFill>
              <a:latin typeface="Arial"/>
            </a:endParaRPr>
          </a:p>
        </p:txBody>
      </p:sp>
      <p:sp>
        <p:nvSpPr>
          <p:cNvPr id="58"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nited Nations separated Palestine into two nations- the Arab Nation and Jew Nation. Jerusalem became the U.N. headquarte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7T13:11:21Z</dcterms:created>
  <dc:creator>cfisd</dc:creator>
  <dc:description/>
  <dc:language>en-US</dc:language>
  <cp:lastModifiedBy>cfisd</cp:lastModifiedBy>
  <dcterms:modified xsi:type="dcterms:W3CDTF">2009-03-02T13:38:08Z</dcterms:modified>
  <cp:revision>5</cp:revision>
  <dc:subject/>
  <dc:title>Palestine/ Israel Conflict</dc:title>
</cp:coreProperties>
</file>