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DBB72-0C51-4E87-AE87-43406BB9D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204D-40B9-4A96-916B-E6D317692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4F4BC-0088-4E5F-9F34-88D3F847B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74079-3EF6-4AFB-9FC5-EBD05381C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78A70-22D9-4734-A6E1-EADBDFB2B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14D3B-C1B6-4A98-9EA9-9D3EC5C01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FBBAD-2150-4290-85BC-AC0292DFD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3F438-EC61-4DB4-BD88-DE30CBD71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5CB58-DE04-472F-82A6-B4053D74C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46466-39C5-4860-965E-891770106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A83B-03B8-41ED-8C97-97E31B25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625C-99AB-496E-ABD1-7A7BBF821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A50E-AE6C-47AA-A0D6-8DBC4BAE2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3:38:08Z</dcterms:modified>
  <cp:revision>5</cp:revision>
  <dc:subject/>
  <dc:title>Palestine/ Israel Conflict</dc:title>
</cp:coreProperties>
</file>