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B0F-512C-44A2-B114-60737827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B83-0691-4AC3-A18A-ECABDEA1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8A1-89C1-4DD7-AAD6-9A8940C1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31D-C4B7-4627-BA8A-19622F56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547-E72F-4D1C-A737-8BEEFDD8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17D-403E-4538-AA33-A7E76C37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1F1-BE79-4C4A-89D5-B6805D01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D4F-5EB2-4322-8B06-6C6E0411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B96-A754-42AB-B426-538E8847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277-7B9F-490E-8EB2-5E6C14A2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BAE-5D7A-4554-959C-F341B509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703-9719-4B77-8F53-3E700320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F164-3F85-45FE-AB10-08804B9D8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ubaibeachfurnishedapartments.com/7-star-burj-al-arab-duba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urj Al Arab - 7-Star Hotels in Dub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133720"/>
            <a:ext cx="45687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Becca</cp:lastModifiedBy>
  <dcterms:modified xsi:type="dcterms:W3CDTF">2009-02-25T02:28:00Z</dcterms:modified>
  <cp:revision>3</cp:revision>
  <dc:subject/>
  <dc:title>Rebecca in Dubai!</dc:title>
</cp:coreProperties>
</file>