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E0B-0B01-4D31-BF22-9E96E27A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14E-1B98-42AB-BC88-0EAAAEFA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ABE-BBE3-4373-B26D-389B78A6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8A4-1467-4BCA-A09B-BE1DB2C1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0B6-383A-4B00-9803-9053F37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917-6E5C-4227-A96D-FC64580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A89-8EEA-42CF-929A-2D4C8A73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B52-BB72-4C7E-933A-F31A2468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D95-5C09-4E9B-A444-D752E7BD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634-9AD5-4DD2-9AAC-5C7B6EF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A11-531D-40CB-BD48-26689D6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B66-A0E7-41C4-9830-B82C83F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FE30-2292-4480-8661-BF8DB99A2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ubaibeachfurnishedapartments.com/7-star-burj-al-arab-duba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urj Al Arab - 7-Star Hotels in Dub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5687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Becca</cp:lastModifiedBy>
  <dcterms:modified xsi:type="dcterms:W3CDTF">2009-02-25T02:28:00Z</dcterms:modified>
  <cp:revision>3</cp:revision>
  <dc:subject/>
  <dc:title>Rebecca in Dubai!</dc:title>
</cp:coreProperties>
</file>