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84A-CB0E-4D38-9D16-7BEBBE1A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E751-8895-49EA-8899-44022473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164-EB2B-4230-9FB2-C853DBAB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CA3-9D73-47EB-A21E-E8285ADB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97D-6A75-4D14-B0B7-AF2459FE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0B5-F609-4F6D-8011-F7A2EFDC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19B-9ED4-462B-AB5F-F9A612CA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F414-A234-425C-B064-375A341B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0DF-5478-4777-9C24-A4402DCC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DC90-82BE-4360-B030-7D099E1F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D44-2256-4A16-8D7B-1098BD70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914-CCB1-4E80-9738-33D750A1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C0A9-94B6-41A6-8E04-7236C0B40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ubaibeachfurnishedapartments.com/7-star-burj-al-arab-duba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Rebecca in Dubai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Burj Al Arab - 7-Star Hotels in Duba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133720"/>
            <a:ext cx="45687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Let’s Kepinski it up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I’ll be staying at the  Kempinski Mall Of The Emirates in  the Deluxe Corner Suite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Dubai Hotels - Kempinski Hotel Mall of the Emirates"/>
          <p:cNvPicPr/>
          <p:nvPr/>
        </p:nvPicPr>
        <p:blipFill>
          <a:blip r:embed="rId1"/>
          <a:stretch/>
        </p:blipFill>
        <p:spPr>
          <a:xfrm>
            <a:off x="4648320" y="1523880"/>
            <a:ext cx="421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Yeahhh it’s my world now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ur first stop is buying a new private island in the “world.” Don’t worry though, my boyfriends paying for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an island is an example of tertiary activ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962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Bling B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n Wednesday  I’ll stop by the Gold Souk, one of the largest gold retailers in the world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886200" cy="2308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Gold souk,Dubai by fortjesus, kenya."/>
          <p:cNvPicPr/>
          <p:nvPr/>
        </p:nvPicPr>
        <p:blipFill>
          <a:blip r:embed="rId2"/>
          <a:stretch/>
        </p:blipFill>
        <p:spPr>
          <a:xfrm>
            <a:off x="4267080" y="1143000"/>
            <a:ext cx="4648320" cy="4419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19720" y="56674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jewelry at the Gold Souk is a tertiary activity because the seller has taken a primary resource (gold) and added value by making a beautiful necklace. Then sold the necklace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Tennis in Duba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ursday afternoon, Michelle and I bought tickets to watch Maria Sharapova in the Dubai Tennis Championship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600" y="571500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tickets to a tennis match  is a tertiary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20984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Yellow Polka Dot Bik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2895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riday, I’m going to get lunch at the Atlantis Hotel and spend sometime on the bea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449568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62520" y="539280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lunch at the Atlantis Hotel is a tertiary activity because the Chef has taken a primary source (raw food) and added value to the food by cooking it and making a delicious meal! Then I bought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Vroom V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aturday, I’ll spice it up a little with good old fashioned Camel Racing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5760720"/>
            <a:ext cx="4038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Paying to race a camel is a Tertiary activity, because the owners of Dubai Camel Racing have taken a primary source (the camel) and added value to it by creating a sport. Then I paid money to join 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Dubai Camel Racing Track by PakistanHousing.pk."/>
          <p:cNvPicPr/>
          <p:nvPr/>
        </p:nvPicPr>
        <p:blipFill>
          <a:blip r:embed="rId1"/>
          <a:stretch/>
        </p:blipFill>
        <p:spPr>
          <a:xfrm>
            <a:off x="4876920" y="1676520"/>
            <a:ext cx="3657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History of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Dubai began as a small fishing community ruled by the Maktoum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1985, plans to turn Dubai into a travel destination be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ow Dubai is a world renowned tourist destination, however they continue to blend their ultra high tech city with their traditional Islamic tradition and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0" y="5181120"/>
            <a:ext cx="4038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his is a mosque surrounded by the City of 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DUBAI MOSQUE by forzet."/>
          <p:cNvPicPr/>
          <p:nvPr/>
        </p:nvPicPr>
        <p:blipFill>
          <a:blip r:embed="rId1"/>
          <a:stretch/>
        </p:blipFill>
        <p:spPr>
          <a:xfrm>
            <a:off x="4419720" y="182880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9:22:48Z</dcterms:created>
  <dc:creator>Matt Guilfoyle</dc:creator>
  <dc:description/>
  <dc:language>en-US</dc:language>
  <cp:lastModifiedBy>Becca</cp:lastModifiedBy>
  <dcterms:modified xsi:type="dcterms:W3CDTF">2009-02-25T02:28:00Z</dcterms:modified>
  <cp:revision>3</cp:revision>
  <dc:subject/>
  <dc:title>Rebecca in Dubai!</dc:title>
</cp:coreProperties>
</file>