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9A6-CB7D-403E-A422-45E8588E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F3D-6F36-41E1-AC63-CD531A95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140-D33E-4152-8550-8AA6ADBE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7F2-55B0-4A3E-AD70-410FD3CE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620-AAC2-42D0-A95E-86C8911A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C00-641D-46E5-A80F-56DB3C66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1A4-7933-466E-A56A-7C0FCCC9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018-99E9-43A5-A6F8-58042599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A8D-0E14-45DB-95FC-89A42E2B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B23-832E-4D69-9FCD-BF88BCE2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E07-2CA3-4DB0-94F5-76AD8E85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DA5-4D74-41D9-B368-A41074DB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2FD5-58E4-40D0-86AE-0EA8E89F4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ubaibeachfurnishedapartments.com/7-star-burj-al-arab-duba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Rebecca in Dubai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urj Al Arab - 7-Star Hotels in Duba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133720"/>
            <a:ext cx="45687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Let’s Kepinski it up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I’ll be staying at the  Kempinski Mall Of The Emirates in  the Deluxe Corner Suite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Dubai Hotels - Kempinski Hotel Mall of the Emirates"/>
          <p:cNvPicPr/>
          <p:nvPr/>
        </p:nvPicPr>
        <p:blipFill>
          <a:blip r:embed="rId1"/>
          <a:stretch/>
        </p:blipFill>
        <p:spPr>
          <a:xfrm>
            <a:off x="4648320" y="1523880"/>
            <a:ext cx="421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Yeahhh it’s my world now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ur first stop is buying a new private island in the “world.” Don’t worry though, my boyfriends paying for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an island is an example of tertiary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Bling B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n Wednesday  I’ll stop by the Gold Souk, one of the largest gold retailers in the world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886200" cy="2308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Gold souk,Dubai by fortjesus, kenya."/>
          <p:cNvPicPr/>
          <p:nvPr/>
        </p:nvPicPr>
        <p:blipFill>
          <a:blip r:embed="rId2"/>
          <a:stretch/>
        </p:blipFill>
        <p:spPr>
          <a:xfrm>
            <a:off x="4267080" y="11430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56674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jewelry at the Gold Souk is a tertiary activity because the seller has taken a primary resource (gold) and added value by making a beautiful necklace. Then sold the necklac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Tennis 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ursday afternoon, Michelle and I bought tickets to watch Maria Sharapova in the Dubai Tennis Championshi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600" y="571500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tickets to a tennis match  is a tertiary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2098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Yellow Polka Dot Bik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895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riday, I’m going to get lunch at the Atlantis Hotel and spend sometime on the be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62520" y="53928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lunch at the Atlantis Hotel is a tertiary activity because the Chef has taken a primary source (raw food) and added value to the food by cooking it and making a delicious meal! Then I bough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Vroom V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aturday, I’ll spice it up a little with good old fashioned Camel Racing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576072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Paying to race a camel is a Tertiary activity, because the owners of Dubai Camel Racing have taken a primary source (the camel) and added value to it by creating a sport. Then I paid money to join 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Dubai Camel Racing Track by PakistanHousing.pk."/>
          <p:cNvPicPr/>
          <p:nvPr/>
        </p:nvPicPr>
        <p:blipFill>
          <a:blip r:embed="rId1"/>
          <a:stretch/>
        </p:blipFill>
        <p:spPr>
          <a:xfrm>
            <a:off x="4876920" y="16765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ubai began as a small fishing community ruled by the Maktoum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1985, plans to turn Dubai into a travel destination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ow Dubai is a world renowned tourist destination, however they continue to blend their ultra high tech city with their traditional Islamic tradition and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5181120"/>
            <a:ext cx="4038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is is a mosque surrounded by the City of 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DUBAI MOSQUE by forzet."/>
          <p:cNvPicPr/>
          <p:nvPr/>
        </p:nvPicPr>
        <p:blipFill>
          <a:blip r:embed="rId1"/>
          <a:stretch/>
        </p:blipFill>
        <p:spPr>
          <a:xfrm>
            <a:off x="4419720" y="18288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22:48Z</dcterms:created>
  <dc:creator>Matt Guilfoyle</dc:creator>
  <dc:description/>
  <dc:language>en-US</dc:language>
  <cp:lastModifiedBy>Becca</cp:lastModifiedBy>
  <dcterms:modified xsi:type="dcterms:W3CDTF">2009-02-25T02:28:00Z</dcterms:modified>
  <cp:revision>3</cp:revision>
  <dc:subject/>
  <dc:title>Rebecca in Dubai!</dc:title>
</cp:coreProperties>
</file>