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7A30-5761-473C-9B0D-F54669563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DA96-4B85-4102-88D9-2E60BC42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7B99-0F1D-43A6-BD31-93D95871E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7B14-6994-465F-8EBA-6DD5A0BE6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4F9B-F335-4AA0-911B-54AAFC23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0DBD-3BED-48A0-83DC-C60FC4CF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E2C4-29BD-45CC-8F22-1B6B4D41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5F01-CE28-4398-B5C4-DAB6109B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9770-CE33-4FDF-B7BF-3395EFED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A19E-4B5F-427C-B8EC-35240505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C3EB-4D93-487A-AB4F-5A562B47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3C07-1CC9-442C-ADDE-31756E4B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B1AA-F841-45C4-9070-BDB5421FF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ews.bbc.co.uk/2/hi/in_depth/world/2004/asia_quake_disaster/default.st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t.cdc.gov/disasters/tsunamis/healtheff.asp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usatoday.com/news/graphics/tsnumai/flash.htm" TargetMode="External"/><Relationship Id="rId2" Type="http://schemas.openxmlformats.org/officeDocument/2006/relationships/hyperlink" Target="http://www.tsunami2004.net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Recovery Plan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Recovery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: Create a recovery plan that describes your response to a tsunami in South Asia similar to the 2004 Tsunam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: You work for the International Red Cross.  You must develop a comprehensive plan for a tsunami relief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ssignment is divided into 3 s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ction needs the follow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to the analysis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s/strategies as required on the analysis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2 pi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aste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2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aster Rel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rements -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Disaste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lain what caused the tsuna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na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lain the devastation created by the tsun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3 bullets or sentences describing the deva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2 pictures to support your Disaster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Disaster Rel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do tsunamis affect peop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would you address their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4 strategies or solutions to address the problems created by the tsuna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2 pictures to support your Disaster Relief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Recovery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1 - Use the following sources to analyze the disas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ews.bbc.co.uk/2/hi/in_depth/world/2004/asia_quake_disaster/default.s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Recovery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2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 the following sources to analyze the aftermath of the disa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t.cdc.gov/disasters/tsunamis/healtheff.a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usatoday.com/news/graphics/tsnumai/flash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tsunami2004.net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hot spot there are a million links on this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2:55:32Z</dcterms:created>
  <dc:creator>CFISD</dc:creator>
  <dc:description/>
  <dc:language>en-US</dc:language>
  <cp:lastModifiedBy>CFISD</cp:lastModifiedBy>
  <dcterms:modified xsi:type="dcterms:W3CDTF">2009-03-11T12:29:34Z</dcterms:modified>
  <cp:revision>6</cp:revision>
  <dc:subject/>
  <dc:title>Slide 1</dc:title>
</cp:coreProperties>
</file>