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01C-2333-4B4C-AA2C-9FC93203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C3AB-7A52-447D-9ADC-CE68549E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C8E-F43C-4BE0-B361-95D1D4DF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7D68-1ABE-401C-AC81-33F06762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F94-9AD3-49C7-9BE5-3DD253B7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7124-6EAD-4832-9321-23DBC851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D81-8E03-4D67-BEB3-AD5782DD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230B-4D10-4D04-96CF-E12BDCC7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D56D-D8DC-42AA-95BC-25582276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B5B-AEFB-4B75-A6FC-5A5395CE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9999-E8F9-4FF5-9690-DE82113C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81E-3EDA-427E-8F4C-38A3EF2B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211A-CD6A-4FD5-8381-05820A169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ws.bbc.co.uk/2/hi/in_depth/world/2004/asia_quake_disaster/default.s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t.cdc.gov/disasters/tsunamis/healtheff.asp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satoday.com/news/graphics/tsnumai/flash.htm" TargetMode="External"/><Relationship Id="rId2" Type="http://schemas.openxmlformats.org/officeDocument/2006/relationships/hyperlink" Target="http://www.tsunami2004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Create a recovery plan that describes your response to a tsunami in South Asia similar to the 2004 Tsunam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: You work for the International Red Cross.  You must develop a comprehensive plan for a tsunami relief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 is divided into 3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ction needs the follow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o the analysis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/strategies as required on the analysi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2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R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-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Disas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what caused the tsun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the devastation created by the tsu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3 bullets or sentences describing the deva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Disaster R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do tsunamis affect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would you address their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4 strategies or solutions to address the problems created by the tsun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Relief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 - Use the following sources to analyze the disas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in_depth/world/2004/asia_quake_disaster/default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 the following sources to analyze the aftermath of the disa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t.cdc.gov/disasters/tsunamis/healtheff.a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satoday.com/news/graphics/tsnumai/flas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sunami2004.net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hot spot there are a million links on this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2:55:32Z</dcterms:created>
  <dc:creator>CFISD</dc:creator>
  <dc:description/>
  <dc:language>en-US</dc:language>
  <cp:lastModifiedBy>CFISD</cp:lastModifiedBy>
  <dcterms:modified xsi:type="dcterms:W3CDTF">2009-03-11T12:29:34Z</dcterms:modified>
  <cp:revision>6</cp:revision>
  <dc:subject/>
  <dc:title>Slide 1</dc:title>
</cp:coreProperties>
</file>